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86C-CF72-45AA-BDB3-E1B9ED1C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25D-9B58-4CD1-B11F-F35DE416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4FE-AD2C-4B95-BB01-8C374ABE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09D-53A6-4A9F-A66F-AD5D3F0F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1CA-2F98-42FC-9FFC-CA14EA1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423-F32C-4DE6-9B95-36D5436E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40D5-6784-4634-BA5F-BEFB6E85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580A-8E6D-498E-909A-E18C2AA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B168-B96C-412C-B64C-4150B00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8CC2-9C20-4E84-AA95-90A5D278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320-6D4B-4791-98FC-C5216F7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1B8-C67B-4706-8F53-D1B19BA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6DCE-8A7E-42F7-BCE6-629537A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8674-0C18-4212-9A8A-A2BF1D5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4C07-CD7D-40E7-9F1F-3F45D09D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F047-B43D-4805-BB0E-3B212CA5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C29A-3202-4B07-97D8-C3863B98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CF8-B8C9-4466-B75F-D9A898F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698-353B-4A4C-823B-E721458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215-DB24-4123-A4CF-121FC61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301-7A1B-47B9-A856-00AF314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EAC-6D5F-4DC5-9E9A-ADD6D6C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3B6-4AA4-440F-B28D-56F0041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718-FC3A-4C2C-AA36-227E2394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AE8A-757E-4179-BCF7-CA5FAFAF65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218B-B9AE-418F-9294-FAAABFE9458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4952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Mi Mansi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Evan Morris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76520" y="256212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El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caro garaj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762120" y="2454120"/>
            <a:ext cx="65624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Mi Tipo de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tipo de casa es una mans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  <a:ea typeface="Arial"/>
              </a:rPr>
              <a:t>ó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3880" y="2562120"/>
            <a:ext cx="60199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 es mi cocina impresionan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comedor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mi comedor grande en mi mansi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48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Sala!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rico sala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2433600"/>
            <a:ext cx="76960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l baño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resco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añ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438280" y="2490840"/>
            <a:ext cx="43815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favorito cuarto en la mansió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7ff"/>
                </a:solidFill>
                <a:latin typeface="Arial Black"/>
              </a:rPr>
              <a:t>Mi pat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nd pat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410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a yard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i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magnífic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yar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066680" y="249228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7:37Z</dcterms:created>
  <dc:creator>morrisoneva</dc:creator>
  <dc:description/>
  <dc:language>en-US</dc:language>
  <cp:lastModifiedBy>morrisoneva</cp:lastModifiedBy>
  <dcterms:modified xsi:type="dcterms:W3CDTF">2013-04-04T15:22:24Z</dcterms:modified>
  <cp:revision>4</cp:revision>
  <dc:subject/>
  <dc:title>Mi Mansion</dc:title>
</cp:coreProperties>
</file>